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11D-5994-4161-B6C4-ADA94691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CC3-DEFC-4B1B-893D-63D19BB6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D828A-7136-472A-84B4-0555B09A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80341-3C5E-437A-8717-965DD685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636C8-CE87-41BA-A8C6-8599B670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9DD04-E4E1-4320-8A03-6EAE15E7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5BE75-A5AB-4291-AB04-E1582709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6D149-544D-45CB-AC48-7C6E3D3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6C755-2945-4D40-9A08-E8B96A40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BB5F5-A557-42D1-B590-68AB4871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1C6AB-1DCC-415B-9BAB-70925696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82902-8419-4CEC-8CEA-DC5A68EE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612-89AE-4242-80E4-9DBE7458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62DCD-E065-463E-9950-A1474EE3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F20C3-C56D-440C-BC2C-BBF7192E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4A045-B6DE-4E06-8795-BCF8A0FB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1E224-0D44-4E6B-8B98-2C9D4699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C5512-BEC1-4544-9F20-5C3BD283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22CB7-31B7-48E5-B9BF-7543CDA8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E0B3A-5485-4DC5-A5FA-00804FF4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86387-13B2-4B6A-9F45-24177A8C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3B66C-0544-4E7C-8CAC-295737D1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6D8E3-221D-454D-BDAD-8022149B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3B3-A631-40B6-A7DE-04BF87D2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1260D-A250-4752-A054-BA9B62BA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C79CC-387C-4888-B980-2103D407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64C66-6CEB-4600-B982-29222C22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0DE46-49C9-469B-B60A-B0E228D7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A9CF6-3471-41C1-A3FA-490E87A7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CEFD4-2792-47CE-9AC2-DFB28F56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2A37F-1D58-490D-BBD2-66645F87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F9488-384C-488C-A2E6-44C45D36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7687F-5D4E-44DB-8858-814869B4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FB55D-FD04-4BAE-BB66-38627C47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C13F-0B20-47A1-AD98-A9A4CAB8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D08B1-F95A-439B-889F-0DACBCFA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08131-09A9-43EF-89F5-B4AFBD75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4CE32-9404-495C-BEA1-F4239035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C803D-AE59-415E-AD3D-C27CF903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B0697-12FD-47C2-A473-F7F2906F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D75C3-5972-4C33-806A-E47E9A6B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70F55-9DB5-43EE-B9A3-1FB2F68C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DEB11-9D11-4EEB-B401-2CA8E048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4C2D8-CA3B-453D-935B-1BADBEBF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F52EB-A57B-494E-B681-AB5FBFF2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577E-CE69-4B27-BE10-AE6F4524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15CD2-91E5-40CC-AFA1-5CB07263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16ECB-016F-499C-84B0-E248C138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43F1A-8B49-4385-83EA-A4B4C480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ACBBB-74AE-46C4-AA4C-8E31C122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D6810-D5D6-41F6-9215-47A53898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85C56-C896-4052-AFEB-53E04F41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8561D-8E1C-4C55-B146-528D2B0F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3441B-8542-43A0-ACAD-FE84CDF1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5DBBD-7899-461B-B335-43A6BC84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EC349-65E8-4DAF-B0F9-106412BD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E67D-3577-4721-AB46-E8823DDA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006E5-95A5-41A9-9E15-273B0862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2D062-FFFE-4EC9-B21A-6EE93307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249E1-5134-46F8-B996-D0592894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4D6EB-159C-44DD-8164-36577FBB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F08A7-262E-4781-A13D-6B95273A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9FE70-08F6-4D0A-849C-0D95B1EF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39883-2700-417D-89A1-2D4D5EC4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C7113-AA7A-411C-874A-24C1789D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EA46E-4C15-42E4-BB16-85989893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EACE64-C99B-4738-B73D-79B08CBF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5EA7-D0D4-4460-B5E5-C0E7C9EE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AE7A6-85A8-4B82-B0E9-5ABFD56B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D7875-443B-472A-9316-DD3B3CF8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1DA1EE-1C20-4AB7-A6F6-5CAB1B5F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8F5D6-9591-4AFC-97F1-ACBEEBFA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0899E-7037-4B8D-BE0D-E346E488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F47B41-807B-419C-800C-6B67F682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38173-9CF3-469B-A1BF-FF3CF218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FD2CE-1C35-49CB-8196-485F2DD8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05A975-186F-4B4F-9D62-24D3110E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1005E-72C5-4C02-B8B4-40EB7FC8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2413-D8B9-41B5-B9F9-828E8F58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C5942-EA5B-4D6B-8BDE-78B06E16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5DE8B3-9B59-4920-A4C5-70093241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FECB00-5D2F-4A5E-BDA1-0AA71D9D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968D3-B41F-416A-8D07-B9E12D05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38A6A-3CDA-405E-AF5B-D1D3DE4B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87E66-36BC-4057-9EF4-DE65FBDC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EFDC7-7E5D-4435-B3FC-30FB873D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1220E-F830-4C0F-95A0-ED967AF3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215A31-22CC-4CA3-9600-942F378F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5B704-FC77-4C4A-ABD7-2EE797A0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2E73-9B07-405D-8C04-0C0C220D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10717-A66B-48AF-84B3-49C434D8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99FC71-C081-4728-A54F-95DFB7F5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93744E-08DA-4AE6-886E-6ED531C9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950E6-E3B7-4082-B34D-431FF822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5084D4-AED9-4485-A804-16C8818F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B9D33-5A2D-4B40-8A5D-A60890F1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5D5168-B431-47BC-BA8E-82561099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F9ECCD-F994-4181-8769-68F33DB8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51AE24-9F5C-4217-AFC0-D92E0A3C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1EAE9-1712-4192-9824-9E2A1F07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444E-C4AA-4CDF-86F7-1CEC571A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4D02C5-956C-4122-A30C-091C68D9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1E68DD-7994-44C5-82D8-22FA2C0B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E6D1E2-58B6-4E25-8195-0542D778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3C42DA-3DC8-4980-9A88-CCF522CB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1BC0C6-5530-4149-9046-5131EF66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53E03B-7FE5-4DDD-80BA-F253554B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161493-DB05-4DD4-A01B-0E6EFF9E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9C2CC6-F788-487C-B6AD-241D51F2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99632-245D-4EF3-9BC9-7677F03C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66A0E-DA91-41D5-99BB-6DEAA771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134-0C5C-4463-A311-0BB4AC07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57BB-8064-4E4B-9844-5F9F76D9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500E39-3CBD-4C8B-84F2-EEA2C9C0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9DA254-6292-4731-8356-48974795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2E1DCD-07A5-4D99-B671-F4B3F274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F4A4B7-8E34-4A05-8984-8EE1A1EA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0262C2-7FC3-40E7-938D-B63717A3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DF17DE-1F46-47F0-99A5-93C9F1B0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015AA8-2FD2-4C9C-9B45-3A730AB5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31E418-690B-46C8-AE8B-7DEA0D6A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F71BD-312D-4AE6-9720-27DCC5B0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9BE9F7-87C8-433A-BF38-08C59B51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262C-46DE-43D8-8019-659989A5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DF1429-8D3A-4A5F-AAC7-3356E0A0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C37BF2-ABC3-473F-AE91-B815117E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A81981-02D4-4393-B01A-C05BFD3B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94A0A5-CA90-42BE-AC6D-3D0AE4EF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CEDE12-162B-4711-A267-2C331479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F6947-EEE8-4CBF-A41F-EA92F845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84C1A4-76E5-437E-8D31-9325D641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CCC40F-6118-438F-8249-956DEC7A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E8FE59-BE5B-4422-A423-DB85B775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363777-B957-4CD8-9556-F6E22D83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6894-96BF-417D-BD71-9EC31C86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F7CE4F-0BEC-4F3E-82ED-3FA55907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41DDCD-02C9-4787-94E4-87C3EE83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69E39F-B012-4AD4-916D-4BE69D52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8E51CC-53F8-4FF8-87C2-FB70C246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3D375B-EECE-4735-B963-A0DF750E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AE14B4-6293-4D78-8AFD-CC17A031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F9FAC9-74B8-4FAB-962F-C4E1F55E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E6A6F-527D-4584-B8BD-2339C8C0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2D1BA0-D498-467A-A33A-B3383133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18B704-6385-4F17-8C33-D5EACD3F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2846-26DE-406E-95AA-4F809E6A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BF37AC-7A8F-4C55-83DF-82818193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CC332F-B666-49CD-9303-364A60B2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0FA9E3-C633-4442-B392-43BD9D58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8C37C9-F30E-4624-88AD-8BEBE410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37F1EE-46E6-4FFC-9ADF-40161840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BB2B1E-CBE5-4634-9A9C-86F4029B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F12F08-EE21-4A7B-A97F-1F9B1AF4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7DD171-50E2-40DE-A5E7-85DFF676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1E8E2D-BD17-4CB6-9EF9-97170A40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159ED9-32A4-442F-8B35-78BD8C70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D031-D1A0-440F-A64C-9F4EA6E7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6ABB27-C88D-4A4C-951D-AB490EC2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7E7449-99BA-4D7B-934A-9AF30999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882D83-01B9-4226-90A6-DF7F96C8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A610C1-9C1D-4E67-B533-646A1AD6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7C51E8-7B3E-4939-B27A-0432F543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4004DD-B361-46B2-B927-6B3035A6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9499D4-C677-4145-A8AD-D67D4563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8DBBBC-7231-4C4A-BB7F-C01DD20E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314D3E-967C-4430-86D3-03C09818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1E6500-551B-4A4A-B86B-94DE13AF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1C6DF-E91E-4B91-816F-A890982E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6C84C1-A774-45B4-B2C8-8A72DCA4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8CE9A7-5E35-4392-9992-981F243F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7685AD-C5B7-4026-A6FC-60DFE935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F6AD-B387-4891-9609-D29AADDF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7D3A8-B87E-45B8-B0B2-884BA7CF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FD22B-D0F4-4AF8-B43E-8D64B47B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CA4C5-2E4E-4886-B7EA-CFB8C0DE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A1D-663F-41F0-8C7A-C716B5E1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95A4E-CE08-4512-9359-0883BD23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686C8-914C-4C1E-AFFA-6BF2D4E3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EF835-7548-43B2-A277-B98FFF0D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50A10-C42E-41F1-B39E-E10D2296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3DED1-D851-4998-A019-402CCA88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1F883-0560-4978-B2A1-A5C6D1A7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B27D7-FB65-44CD-A25F-89C2031F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99DF2-1A87-45B2-B0E9-46C2A864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5617C-4CF3-4CD4-977D-3FC8B506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2887E-C318-4B90-9911-C58B4A6A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380-598D-4F3E-A17B-4AD608DF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3FA33-E306-4005-8096-F328654F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6B0F6-11B4-4BDF-B95A-EDDE8351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E1AB6-B2CD-4040-8140-E2604694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5CC5B-9E3E-437D-AC3C-0CB43C37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DB0BD-4DF1-4FA2-A434-6460A402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35A5D-91EF-4A49-9242-21493BA9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2A8AA-2046-405C-A5B9-07DC3997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D2653-AA4B-433C-8394-D45C6B5C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BFD55-B8FD-4E2E-A511-51940F82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C858E-3E02-44B2-89CF-F90CB367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1FC-C3D9-433C-8A89-16A1AF84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94B8E-088B-40D0-AEFD-BD8333C6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54E16-C2D3-4C0D-B809-677974BA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2B311-7056-466F-BDAB-C29630FE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B9B81-4749-4D05-8530-4D421AAC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423FD-71A2-40F9-9CDB-40059270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57A87-27D6-4355-84B6-3DDD040B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14620-CFB5-4993-B273-0D64DB75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B521E-90FD-4AB0-B34E-D250661B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BC11C-1073-4D2F-BC6E-72832199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24F1C-B7AD-4ED3-BDB2-E3CC2A8E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193-9D97-4FAE-AB02-DCF1AA79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3254D-75BF-4542-8884-BFD4D40E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9D6D7-84BF-4ED2-8AC9-A1298E00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7253A-2E9F-468B-A9AD-E9BB59BD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C0C5F-440C-4ED8-8C1B-D5265CFC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65387-C28A-4DCD-BF01-0615F330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87722-D1F9-49CC-9EDF-0513EC3C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33412-CD49-4C3A-B3C1-B1FE656C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78A74-E24C-497E-B28C-C65A5A3B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D7076-2448-4098-8E33-1486110C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6F88C-E4E4-4922-B158-753A0F10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645-513E-4378-91E6-FE5E4E76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19AE7-8778-4CD6-A04E-6B67A484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D91E3-6BA6-4C1B-B748-A1FE3550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74CD4-7DFC-4292-8251-2EE317E9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EB366-DBDE-40DC-9D15-08902112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78697-449C-4766-85D8-9F9F3D28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4C9B4-BC40-4958-B8C8-98D0D879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740F4-1E8A-4C30-8FA9-837B09B5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D6CE0-E17B-40D2-97A2-823DC490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568BF-B0C7-400C-9C54-45F2C4E4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6BFA8-B91E-49A9-B734-7604D93B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5CD-8A50-4CE5-88B9-0AC60BA8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5C017-2D9E-4BBC-973C-79A0FF8B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17AAB-967D-424B-90E3-E65778FF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E4F44-4A36-475A-A42F-6998FD9D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C4B55-A7C0-49D6-B2C8-17EC65F2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258F2-7F2E-42B1-B697-C664FFA8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D059E-1DC9-4E41-9CCE-7B1FCC02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78C5E-9BCA-4E85-93C1-881347D2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8103B-BE12-484A-877A-2E353F56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94056-FAF9-46A4-B591-245F3B76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D35F5-F823-4FCA-BEEC-D9A530E6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F00-3F15-4D2A-94E7-833970BC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CD51D-406D-4909-94E9-08FF7887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BAAF8-6852-4664-BD4F-C41183B1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22472-9E5A-4558-9D08-5D3B1519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3675F-6D59-424E-9A39-A6A63152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5BF69-81DE-4F3D-8F58-C2DB3FCD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DAB2B-F218-40B4-BCB5-AE50042D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43359-D91C-4E08-A156-39F30701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DE3A0-2190-45C0-B23B-A6C9B8A4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2B70A-789A-4E1A-82BB-5B2CEA50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52AF7-2586-4465-A20D-33A7DFF0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0B2A-BBEE-46B4-8754-33ECAB9EF1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2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B4B2-0B43-4825-9364-5D22542F76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3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9E67-D15C-4965-86D9-D8CCA4FC6DF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FA4A-92D5-4C4D-B4FC-39ACD35A8C8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7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8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9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B5CA-A054-419F-A59D-21C49F33BB8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4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41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4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421F-D0DA-4233-8B92-967EC96CD22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4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4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4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106C-34D5-4635-8835-DCFD9F82746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6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5A16-0752-41A1-AC3B-96C5A7DBF6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01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12" name="PlaceHolder 1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080B-224C-4B29-9A34-6D9E3C2557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5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5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5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6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6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06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7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8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8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08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9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9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09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9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1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1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11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1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2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2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2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2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13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3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4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5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5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15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5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6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6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16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E58A-2146-418F-93E2-955E09823F0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22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23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23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23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3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23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23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4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4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24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4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4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24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4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4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24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5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25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5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5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25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5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5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25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5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5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26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6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26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6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6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26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6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6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26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7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7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27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7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7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27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7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7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27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7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8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28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8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8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28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8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8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28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8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8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29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9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9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29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9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9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29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9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29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0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30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30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30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0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0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30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0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0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31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1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1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31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1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1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31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1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1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31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2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2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32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2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2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32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2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2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32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2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3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33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3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3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33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3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133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33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33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34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4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34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C9B5-51B6-4387-9D8E-3CE77C05643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718b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9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571D-5789-4504-8EFC-4B9B8CA98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0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0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0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1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3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5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6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E5D6-5C1E-462C-9740-D2676E4BE6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0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0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1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2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4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5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6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80C5-CCA6-4827-B4F4-DB648E5FA2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7C74-F28B-4687-A755-B4169484730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CF06-1DCE-4244-ABFB-0DCB518E414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F560-A654-41F3-915B-8255FC13D96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7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7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90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50E0-934D-48A4-8BCD-4C9915E75E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718b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6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7AD1-2174-4D04-9396-4F9D8EAFA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2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2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658A-3AF2-4316-A600-BA34DD928DD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11D5-D9AC-4BE2-BAA8-C317224396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lagspot.net/images/e/eu-eun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1" name="Picture 11" descr="Germany_fla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Cultural diversity in German speaking count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Migra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rural-urban in international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4" name="Text Box 9"/>
          <p:cNvSpPr/>
          <p:nvPr/>
        </p:nvSpPr>
        <p:spPr>
          <a:xfrm>
            <a:off x="6095880" y="5867280"/>
            <a:ext cx="291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90b"/>
                </a:solidFill>
                <a:latin typeface="Arial"/>
              </a:rPr>
              <a:t>Jason Knapczyk Quarter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8" name="Title 1" descr=""/>
          <p:cNvPicPr/>
          <p:nvPr/>
        </p:nvPicPr>
        <p:blipFill>
          <a:blip r:embed="rId2"/>
          <a:stretch/>
        </p:blipFill>
        <p:spPr>
          <a:xfrm>
            <a:off x="450720" y="36360"/>
            <a:ext cx="8242560" cy="150660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137880" y="2133720"/>
            <a:ext cx="89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http://www.genealogyforum.com/gfaol/resource/German/migration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0" name=""/>
          <p:cNvSpPr/>
          <p:nvPr/>
        </p:nvSpPr>
        <p:spPr>
          <a:xfrm>
            <a:off x="1117080" y="2971800"/>
            <a:ext cx="70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http://www.progenealogists.com/germanemigration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1" name=""/>
          <p:cNvSpPr/>
          <p:nvPr/>
        </p:nvSpPr>
        <p:spPr>
          <a:xfrm>
            <a:off x="1924560" y="3886200"/>
            <a:ext cx="56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http://www.google.com/imghp?hl=en&amp;tab=w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2" name=""/>
          <p:cNvSpPr/>
          <p:nvPr/>
        </p:nvSpPr>
        <p:spPr>
          <a:xfrm>
            <a:off x="1186920" y="4648320"/>
            <a:ext cx="73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http://focus-migration.hwwi.de/Germany.1509.0.html?&amp;L=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5" name="Picture 5" descr="MassLaws"/>
          <p:cNvPicPr/>
          <p:nvPr/>
        </p:nvPicPr>
        <p:blipFill>
          <a:blip r:embed="rId1"/>
          <a:stretch/>
        </p:blipFill>
        <p:spPr>
          <a:xfrm>
            <a:off x="5181480" y="1905120"/>
            <a:ext cx="3002040" cy="4343400"/>
          </a:xfrm>
          <a:prstGeom prst="rect">
            <a:avLst/>
          </a:prstGeom>
          <a:ln w="0">
            <a:noFill/>
          </a:ln>
        </p:spPr>
      </p:pic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14f819"/>
                </a:solidFill>
                <a:uFillTx/>
                <a:latin typeface="Tahoma"/>
              </a:rPr>
              <a:t>Germany: Immigration in Transi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Germany has an ongoing need for immigrants to bolster economic development and to maintain a dynamic workfor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8" name="Text Box 10"/>
          <p:cNvSpPr/>
          <p:nvPr/>
        </p:nvSpPr>
        <p:spPr>
          <a:xfrm>
            <a:off x="874080" y="2290680"/>
            <a:ext cx="41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n immigration law pas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both houses of the Germ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arliament and was sign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by the president in Mar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00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9" name="Text Box 11"/>
          <p:cNvSpPr/>
          <p:nvPr/>
        </p:nvSpPr>
        <p:spPr>
          <a:xfrm>
            <a:off x="890280" y="4235400"/>
            <a:ext cx="448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he law took affect in Januar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of 2005. This set the stage f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how Germany will deal wit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labor migration, newcomer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nd resident migrants in 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years to com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718b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Germany: Immigration in Transition                      Cont.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621" name="Text Box 4"/>
          <p:cNvSpPr/>
          <p:nvPr/>
        </p:nvSpPr>
        <p:spPr>
          <a:xfrm>
            <a:off x="859680" y="1676520"/>
            <a:ext cx="736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Many business, labor, and religious organiza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welcomed the 2002 effort to pass an immi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la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2" name="Picture 6" descr="[European Union flag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860640"/>
            <a:ext cx="4495680" cy="2997360"/>
          </a:xfrm>
          <a:prstGeom prst="rect">
            <a:avLst/>
          </a:prstGeom>
          <a:ln w="0">
            <a:noFill/>
          </a:ln>
        </p:spPr>
      </p:pic>
      <p:sp>
        <p:nvSpPr>
          <p:cNvPr id="1623" name="TextBox 7"/>
          <p:cNvSpPr/>
          <p:nvPr/>
        </p:nvSpPr>
        <p:spPr>
          <a:xfrm>
            <a:off x="899280" y="2971800"/>
            <a:ext cx="85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eanwhile the European Union let 10 countries in. Th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romised new challenges for northern Europe’s economi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owerhou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4" name="TextBox 8"/>
          <p:cNvSpPr/>
          <p:nvPr/>
        </p:nvSpPr>
        <p:spPr>
          <a:xfrm>
            <a:off x="983160" y="4343400"/>
            <a:ext cx="361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When large # of Polis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workers were import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o work in the min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ector in the 19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entu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5" name="Title 1" descr=""/>
          <p:cNvPicPr/>
          <p:nvPr/>
        </p:nvPicPr>
        <p:blipFill>
          <a:blip r:embed="rId1"/>
          <a:stretch/>
        </p:blipFill>
        <p:spPr>
          <a:xfrm>
            <a:off x="414360" y="36360"/>
            <a:ext cx="8437680" cy="1506600"/>
          </a:xfrm>
          <a:prstGeom prst="rect">
            <a:avLst/>
          </a:prstGeom>
          <a:ln w="0">
            <a:noFill/>
          </a:ln>
        </p:spPr>
      </p:pic>
      <p:sp>
        <p:nvSpPr>
          <p:cNvPr id="1626" name="TextBox 3"/>
          <p:cNvSpPr/>
          <p:nvPr/>
        </p:nvSpPr>
        <p:spPr>
          <a:xfrm>
            <a:off x="339840" y="1523880"/>
            <a:ext cx="880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Over seven million Germans came to America. The first migration to America was to a city named Germantown in Pennsylvania. Althoug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religious persecution 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a main reason for thei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immigration it wasn’t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only reason why they le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for America. The Thir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Year War (1618-1648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brought devastat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effects on the econom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and society.</a:t>
            </a:r>
            <a:r>
              <a:rPr b="0" lang="en-US" sz="2400" spc="-1" strike="noStrike">
                <a:solidFill>
                  <a:srgbClr val="14f81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7" name="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3581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Title 1" descr=""/>
          <p:cNvPicPr/>
          <p:nvPr/>
        </p:nvPicPr>
        <p:blipFill>
          <a:blip r:embed="rId2"/>
          <a:stretch/>
        </p:blipFill>
        <p:spPr>
          <a:xfrm>
            <a:off x="201600" y="171360"/>
            <a:ext cx="8856720" cy="1255680"/>
          </a:xfrm>
          <a:prstGeom prst="rect">
            <a:avLst/>
          </a:prstGeom>
          <a:ln w="0">
            <a:noFill/>
          </a:ln>
        </p:spPr>
      </p:pic>
      <p:sp>
        <p:nvSpPr>
          <p:cNvPr id="1629" name="TextBox 3"/>
          <p:cNvSpPr/>
          <p:nvPr/>
        </p:nvSpPr>
        <p:spPr>
          <a:xfrm>
            <a:off x="-216000" y="1752480"/>
            <a:ext cx="8769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in the winter of 1708-09 Europe experienced the wor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ter ever.  Germans sailed to New York to start fresh 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tled in the colony of Newburg along the Hudson riv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d spread back to Germa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American lands where ver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rtile. That made more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Germans come to New Y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settled in colonies 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Jersey, Maryland, and then 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rmanna in Virginia. The India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ks made the Germans buil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gger communities and move in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ties like Philadelphia and Baltimo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0" name="" descr=""/>
          <p:cNvPicPr/>
          <p:nvPr/>
        </p:nvPicPr>
        <p:blipFill>
          <a:blip r:embed="rId3"/>
          <a:stretch/>
        </p:blipFill>
        <p:spPr>
          <a:xfrm>
            <a:off x="4952880" y="2971800"/>
            <a:ext cx="381024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itle 1" descr=""/>
          <p:cNvPicPr/>
          <p:nvPr/>
        </p:nvPicPr>
        <p:blipFill>
          <a:blip r:embed="rId1"/>
          <a:stretch/>
        </p:blipFill>
        <p:spPr>
          <a:xfrm>
            <a:off x="201600" y="171360"/>
            <a:ext cx="8856720" cy="1255680"/>
          </a:xfrm>
          <a:prstGeom prst="rect">
            <a:avLst/>
          </a:prstGeom>
          <a:ln w="0">
            <a:noFill/>
          </a:ln>
        </p:spPr>
      </p:pic>
      <p:sp>
        <p:nvSpPr>
          <p:cNvPr id="1632" name="TextBox 3"/>
          <p:cNvSpPr/>
          <p:nvPr/>
        </p:nvSpPr>
        <p:spPr>
          <a:xfrm>
            <a:off x="-112680" y="1600200"/>
            <a:ext cx="943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By 1854 New York became the main port of entry f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Germans. By 1854 a ¼ of a million Germans had arri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In America. In 1870 the Germ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empire was born from 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of states and kingdom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Germans would leave aga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because of war and grow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taxes. The immigration began 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1880 with 200,000 leaving. Swiss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Germans began leaving in large #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starting in 1881-188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3" name="" descr=""/>
          <p:cNvPicPr/>
          <p:nvPr/>
        </p:nvPicPr>
        <p:blipFill>
          <a:blip r:embed="rId2"/>
          <a:stretch/>
        </p:blipFill>
        <p:spPr>
          <a:xfrm>
            <a:off x="5638680" y="2743200"/>
            <a:ext cx="3345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4" name="Title 1" descr=""/>
          <p:cNvPicPr/>
          <p:nvPr/>
        </p:nvPicPr>
        <p:blipFill>
          <a:blip r:embed="rId1"/>
          <a:stretch/>
        </p:blipFill>
        <p:spPr>
          <a:xfrm>
            <a:off x="433440" y="-30240"/>
            <a:ext cx="8418600" cy="1627200"/>
          </a:xfrm>
          <a:prstGeom prst="rect">
            <a:avLst/>
          </a:prstGeom>
          <a:ln w="0">
            <a:noFill/>
          </a:ln>
        </p:spPr>
      </p:pic>
      <p:sp>
        <p:nvSpPr>
          <p:cNvPr id="1635" name="TextBox 3"/>
          <p:cNvSpPr/>
          <p:nvPr/>
        </p:nvSpPr>
        <p:spPr>
          <a:xfrm>
            <a:off x="554040" y="1676520"/>
            <a:ext cx="821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rmany was mainly a country of emigration in the 1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ntury and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alf of 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entury. Since the 1950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rmany has been an importa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ean destination for migrant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ssue of immigrant integr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also become highly topical 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ent years. The September 11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01 attacks brought ? about o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urity and the integration o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lim immigra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6" name="" descr=""/>
          <p:cNvPicPr/>
          <p:nvPr/>
        </p:nvPicPr>
        <p:blipFill>
          <a:blip r:embed="rId2"/>
          <a:stretch/>
        </p:blipFill>
        <p:spPr>
          <a:xfrm>
            <a:off x="5638680" y="2362320"/>
            <a:ext cx="3276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7" name="Title 1" descr=""/>
          <p:cNvPicPr/>
          <p:nvPr/>
        </p:nvPicPr>
        <p:blipFill>
          <a:blip r:embed="rId2"/>
          <a:stretch/>
        </p:blipFill>
        <p:spPr>
          <a:xfrm>
            <a:off x="450720" y="60480"/>
            <a:ext cx="8242560" cy="1476360"/>
          </a:xfrm>
          <a:prstGeom prst="rect">
            <a:avLst/>
          </a:prstGeom>
          <a:ln w="0">
            <a:noFill/>
          </a:ln>
        </p:spPr>
      </p:pic>
      <p:sp>
        <p:nvSpPr>
          <p:cNvPr id="1638" name=""/>
          <p:cNvSpPr/>
          <p:nvPr/>
        </p:nvSpPr>
        <p:spPr>
          <a:xfrm>
            <a:off x="-186840" y="1676520"/>
            <a:ext cx="81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1854 how many Germans had arrived in Americ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9" name=""/>
          <p:cNvSpPr/>
          <p:nvPr/>
        </p:nvSpPr>
        <p:spPr>
          <a:xfrm>
            <a:off x="762120" y="243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0" name=""/>
          <p:cNvSpPr/>
          <p:nvPr/>
        </p:nvSpPr>
        <p:spPr>
          <a:xfrm>
            <a:off x="533520" y="2286000"/>
            <a:ext cx="237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million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¼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½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1" name=""/>
          <p:cNvSpPr/>
          <p:nvPr/>
        </p:nvSpPr>
        <p:spPr>
          <a:xfrm>
            <a:off x="-206280" y="4191120"/>
            <a:ext cx="87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hen was the Immigration law signed by the President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2" name=""/>
          <p:cNvSpPr/>
          <p:nvPr/>
        </p:nvSpPr>
        <p:spPr>
          <a:xfrm>
            <a:off x="608760" y="4876920"/>
            <a:ext cx="14497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3" name="Title 1" descr=""/>
          <p:cNvPicPr/>
          <p:nvPr/>
        </p:nvPicPr>
        <p:blipFill>
          <a:blip r:embed="rId1"/>
          <a:stretch/>
        </p:blipFill>
        <p:spPr>
          <a:xfrm>
            <a:off x="-201600" y="-334800"/>
            <a:ext cx="8894880" cy="1858680"/>
          </a:xfrm>
          <a:prstGeom prst="rect">
            <a:avLst/>
          </a:prstGeom>
          <a:ln w="0">
            <a:noFill/>
          </a:ln>
        </p:spPr>
      </p:pic>
      <p:sp>
        <p:nvSpPr>
          <p:cNvPr id="1644" name=""/>
          <p:cNvSpPr/>
          <p:nvPr/>
        </p:nvSpPr>
        <p:spPr>
          <a:xfrm>
            <a:off x="39960" y="2058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By 1854 how many Germans had arrived in Americ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5" name=""/>
          <p:cNvSpPr/>
          <p:nvPr/>
        </p:nvSpPr>
        <p:spPr>
          <a:xfrm>
            <a:off x="1358640" y="29718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swer: B) ¼ mill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6" name=""/>
          <p:cNvSpPr/>
          <p:nvPr/>
        </p:nvSpPr>
        <p:spPr>
          <a:xfrm>
            <a:off x="12240" y="3962520"/>
            <a:ext cx="85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When was the Immigration law signed by the Presiden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7" name=""/>
          <p:cNvSpPr/>
          <p:nvPr/>
        </p:nvSpPr>
        <p:spPr>
          <a:xfrm>
            <a:off x="1428120" y="487692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swer: D) 200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3:32:48Z</dcterms:created>
  <dc:creator>SCSadmin</dc:creator>
  <dc:description/>
  <dc:language>en-US</dc:language>
  <cp:lastModifiedBy>SCSadmin</cp:lastModifiedBy>
  <dcterms:modified xsi:type="dcterms:W3CDTF">2011-09-01T14:00:49Z</dcterms:modified>
  <cp:revision>14</cp:revision>
  <dc:subject/>
  <dc:title>Slide 1</dc:title>
</cp:coreProperties>
</file>